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046-18DC-4276-87E4-E759719F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A7D-37AE-49E7-965A-1AD8E1A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297-0E05-4357-8316-1506504E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D32-0423-4317-8E24-6617028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108D-1583-40BB-A797-55826A37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B110-A62C-438D-B575-F056EE0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3A8B-504D-44CE-A42E-C236FFA9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B83C-1963-471E-B823-5850742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E88-8F98-4B12-8BB5-2F98E33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AA1C-8269-4607-8763-1086937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6B7-396C-4093-8978-01A4525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B94-4404-43C3-9B39-460C02FB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AE1-9032-4016-AFCA-9294131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2C2-8266-4705-88A4-0DE64B0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AFE6-A803-4336-B989-830941F3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8D75-96EF-49EA-AC50-4F201E35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37C-7CA1-49DC-B874-0C4699D3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4E2-2F38-40F1-8B16-EE0A0E1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898-A61D-4A1F-94EC-23A3C31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968-6629-4CEE-8E0F-27867F5B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921-3B38-48F1-A435-F57CB211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736-2293-4111-9497-34FE792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58-AB33-4F80-B487-9696D14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55E-E428-46B4-8B55-A2DC7181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20F-19B9-4184-A7A9-951E956CF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3D2-2AED-4797-AA31-C5228E600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adedrelief.com/physical/usa_zoom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quiry-Based Science Instruction and Virtual Learning Objec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ward C. Robeck, Ph.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isbury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Fulbright Visiting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Kebangsa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14080" y="685800"/>
            <a:ext cx="812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 at the University of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May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on Resear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29080" y="2272680"/>
            <a:ext cx="3887640" cy="3534120"/>
            <a:chOff x="2629080" y="2272680"/>
            <a:chExt cx="3887640" cy="3534120"/>
          </a:xfrm>
        </p:grpSpPr>
        <p:sp>
          <p:nvSpPr>
            <p:cNvPr id="117" name="_s18437"/>
            <p:cNvSpPr/>
            <p:nvPr/>
          </p:nvSpPr>
          <p:spPr>
            <a:xfrm>
              <a:off x="3251160" y="2272680"/>
              <a:ext cx="2643120" cy="240300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403000"/>
                <a:gd name="textAreaBottom" fmla="*/ 2403360 h 24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8438"/>
            <p:cNvSpPr/>
            <p:nvPr/>
          </p:nvSpPr>
          <p:spPr>
            <a:xfrm rot="5400000">
              <a:off x="3993480" y="2718360"/>
              <a:ext cx="2403000" cy="264312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8439"/>
            <p:cNvSpPr/>
            <p:nvPr/>
          </p:nvSpPr>
          <p:spPr>
            <a:xfrm rot="10800000">
              <a:off x="3251160" y="3403800"/>
              <a:ext cx="2643120" cy="240300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403000"/>
                <a:gd name="textAreaBottom" fmla="*/ 2403360 h 24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8440"/>
            <p:cNvSpPr/>
            <p:nvPr/>
          </p:nvSpPr>
          <p:spPr>
            <a:xfrm rot="16200000">
              <a:off x="2748960" y="2718000"/>
              <a:ext cx="2403000" cy="264312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8441"/>
            <p:cNvSpPr/>
            <p:nvPr/>
          </p:nvSpPr>
          <p:spPr>
            <a:xfrm>
              <a:off x="5276880" y="2493360"/>
              <a:ext cx="9954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Design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8442"/>
            <p:cNvSpPr/>
            <p:nvPr/>
          </p:nvSpPr>
          <p:spPr>
            <a:xfrm>
              <a:off x="5278320" y="467856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Implemen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8443"/>
            <p:cNvSpPr/>
            <p:nvPr/>
          </p:nvSpPr>
          <p:spPr>
            <a:xfrm>
              <a:off x="2871720" y="249624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Foc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8444"/>
            <p:cNvSpPr/>
            <p:nvPr/>
          </p:nvSpPr>
          <p:spPr>
            <a:xfrm>
              <a:off x="2874960" y="468144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Reflec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481000" y="1371600"/>
            <a:ext cx="35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trategies &amp; 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(Learning 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4880" y="167652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cience I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3320" y="556272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2440" y="55627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r. Ed Robe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32000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can “learning objects” play in science instruction, especially with respect to science inqui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otential of online learning for the professional development of science teach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is meant by “Inquiry-Based” Science Instruc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img220.jpg"/>
          <p:cNvPicPr/>
          <p:nvPr/>
        </p:nvPicPr>
        <p:blipFill>
          <a:blip r:embed="rId2"/>
          <a:stretch/>
        </p:blipFill>
        <p:spPr>
          <a:xfrm>
            <a:off x="1219320" y="1981080"/>
            <a:ext cx="6705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14680" y="547560"/>
            <a:ext cx="571500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66484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1025640"/>
            <a:ext cx="6553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7626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t leads to a questio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s it possible for something to rest on top of water without sin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7626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you thin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of these things could float on top of w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mall piece of 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oden toothp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aperc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ins of black pe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ink of one more small thing that you could 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It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a fork, hold a paperclip above a cup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the paperclip on the fork so the paperclip is parallel with the water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the fork into the water slow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make the paperclip flo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“Inquiry-Based” Science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several “Virtual Learning Objec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a range of uses of Virtual Learning Objects and Discuss the relationship between those uses and elements of Inquiry-Based science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is this like/unlike a mosqui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Photo of a needle on the water's surface"/>
          <p:cNvPicPr/>
          <p:nvPr/>
        </p:nvPicPr>
        <p:blipFill>
          <a:blip r:embed="rId2"/>
          <a:stretch/>
        </p:blipFill>
        <p:spPr>
          <a:xfrm>
            <a:off x="1600200" y="196200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ter Molecu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04812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97180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3200400"/>
            <a:ext cx="2438280" cy="2286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209680"/>
            <a:ext cx="380880" cy="381240"/>
          </a:xfrm>
          <a:prstGeom prst="plus">
            <a:avLst>
              <a:gd name="adj" fmla="val 42264"/>
            </a:avLst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943600"/>
            <a:ext cx="4572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p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297180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200400"/>
            <a:ext cx="2438640" cy="2286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42264"/>
            </a:avLst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5943600"/>
            <a:ext cx="4572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poles align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pull on each oth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153280" cy="451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25880" y="371484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895480"/>
            <a:ext cx="917280" cy="990720"/>
          </a:xfrm>
          <a:custGeom>
            <a:avLst/>
            <a:gdLst>
              <a:gd name="textAreaLeft" fmla="*/ 0 w 917280"/>
              <a:gd name="textAreaRight" fmla="*/ 917640 w 917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6480" y="2895480"/>
            <a:ext cx="917640" cy="99072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73392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495680"/>
            <a:ext cx="917640" cy="99072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8080" y="4508640"/>
            <a:ext cx="917280" cy="990360"/>
          </a:xfrm>
          <a:custGeom>
            <a:avLst/>
            <a:gdLst>
              <a:gd name="textAreaLeft" fmla="*/ 0 w 917280"/>
              <a:gd name="textAreaRight" fmla="*/ 917640 w 9172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3480" y="373392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762600" cy="36781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219320" y="5927760"/>
            <a:ext cx="533160" cy="625320"/>
            <a:chOff x="1219320" y="5927760"/>
            <a:chExt cx="533160" cy="625320"/>
          </a:xfrm>
        </p:grpSpPr>
        <p:sp>
          <p:nvSpPr>
            <p:cNvPr id="181" name=""/>
            <p:cNvSpPr/>
            <p:nvPr/>
          </p:nvSpPr>
          <p:spPr>
            <a:xfrm>
              <a:off x="1219320" y="60199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927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6324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2480" y="5943600"/>
            <a:ext cx="533160" cy="625320"/>
            <a:chOff x="1752480" y="5943600"/>
            <a:chExt cx="533160" cy="625320"/>
          </a:xfrm>
        </p:grpSpPr>
        <p:sp>
          <p:nvSpPr>
            <p:cNvPr id="185" name=""/>
            <p:cNvSpPr/>
            <p:nvPr/>
          </p:nvSpPr>
          <p:spPr>
            <a:xfrm>
              <a:off x="175248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04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04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19520" y="5943600"/>
            <a:ext cx="533160" cy="625320"/>
            <a:chOff x="2819520" y="5943600"/>
            <a:chExt cx="533160" cy="625320"/>
          </a:xfrm>
        </p:grpSpPr>
        <p:sp>
          <p:nvSpPr>
            <p:cNvPr id="189" name=""/>
            <p:cNvSpPr/>
            <p:nvPr/>
          </p:nvSpPr>
          <p:spPr>
            <a:xfrm>
              <a:off x="281952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408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6000" y="5943600"/>
            <a:ext cx="533160" cy="625320"/>
            <a:chOff x="2286000" y="5943600"/>
            <a:chExt cx="533160" cy="625320"/>
          </a:xfrm>
        </p:grpSpPr>
        <p:sp>
          <p:nvSpPr>
            <p:cNvPr id="193" name=""/>
            <p:cNvSpPr/>
            <p:nvPr/>
          </p:nvSpPr>
          <p:spPr>
            <a:xfrm>
              <a:off x="228600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9056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056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52680" y="5943600"/>
            <a:ext cx="533160" cy="625320"/>
            <a:chOff x="3352680" y="5943600"/>
            <a:chExt cx="533160" cy="625320"/>
          </a:xfrm>
        </p:grpSpPr>
        <p:sp>
          <p:nvSpPr>
            <p:cNvPr id="197" name=""/>
            <p:cNvSpPr/>
            <p:nvPr/>
          </p:nvSpPr>
          <p:spPr>
            <a:xfrm>
              <a:off x="335268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24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24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5959440"/>
            <a:ext cx="533160" cy="625320"/>
            <a:chOff x="3886200" y="5959440"/>
            <a:chExt cx="533160" cy="625320"/>
          </a:xfrm>
        </p:grpSpPr>
        <p:sp>
          <p:nvSpPr>
            <p:cNvPr id="201" name=""/>
            <p:cNvSpPr/>
            <p:nvPr/>
          </p:nvSpPr>
          <p:spPr>
            <a:xfrm>
              <a:off x="388620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9076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076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52880" y="5959440"/>
            <a:ext cx="533160" cy="625320"/>
            <a:chOff x="4952880" y="5959440"/>
            <a:chExt cx="533160" cy="625320"/>
          </a:xfrm>
        </p:grpSpPr>
        <p:sp>
          <p:nvSpPr>
            <p:cNvPr id="205" name=""/>
            <p:cNvSpPr/>
            <p:nvPr/>
          </p:nvSpPr>
          <p:spPr>
            <a:xfrm>
              <a:off x="495288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744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744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19720" y="5959440"/>
            <a:ext cx="533160" cy="625320"/>
            <a:chOff x="4419720" y="5959440"/>
            <a:chExt cx="533160" cy="625320"/>
          </a:xfrm>
        </p:grpSpPr>
        <p:sp>
          <p:nvSpPr>
            <p:cNvPr id="209" name=""/>
            <p:cNvSpPr/>
            <p:nvPr/>
          </p:nvSpPr>
          <p:spPr>
            <a:xfrm>
              <a:off x="441972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2428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86400" y="5959440"/>
            <a:ext cx="533160" cy="625320"/>
            <a:chOff x="5486400" y="5959440"/>
            <a:chExt cx="533160" cy="625320"/>
          </a:xfrm>
        </p:grpSpPr>
        <p:sp>
          <p:nvSpPr>
            <p:cNvPr id="213" name=""/>
            <p:cNvSpPr/>
            <p:nvPr/>
          </p:nvSpPr>
          <p:spPr>
            <a:xfrm>
              <a:off x="548640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096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096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19920" y="5975280"/>
            <a:ext cx="533160" cy="625320"/>
            <a:chOff x="6019920" y="5975280"/>
            <a:chExt cx="533160" cy="625320"/>
          </a:xfrm>
        </p:grpSpPr>
        <p:sp>
          <p:nvSpPr>
            <p:cNvPr id="217" name=""/>
            <p:cNvSpPr/>
            <p:nvPr/>
          </p:nvSpPr>
          <p:spPr>
            <a:xfrm>
              <a:off x="601992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2448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86600" y="5975280"/>
            <a:ext cx="533160" cy="625320"/>
            <a:chOff x="7086600" y="5975280"/>
            <a:chExt cx="533160" cy="625320"/>
          </a:xfrm>
        </p:grpSpPr>
        <p:sp>
          <p:nvSpPr>
            <p:cNvPr id="221" name=""/>
            <p:cNvSpPr/>
            <p:nvPr/>
          </p:nvSpPr>
          <p:spPr>
            <a:xfrm>
              <a:off x="708660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16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16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553080" y="5975280"/>
            <a:ext cx="533160" cy="625320"/>
            <a:chOff x="6553080" y="5975280"/>
            <a:chExt cx="533160" cy="625320"/>
          </a:xfrm>
        </p:grpSpPr>
        <p:sp>
          <p:nvSpPr>
            <p:cNvPr id="225" name=""/>
            <p:cNvSpPr/>
            <p:nvPr/>
          </p:nvSpPr>
          <p:spPr>
            <a:xfrm>
              <a:off x="655308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764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64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43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mfwgroup.jpg"/>
          <p:cNvPicPr/>
          <p:nvPr/>
        </p:nvPicPr>
        <p:blipFill>
          <a:blip r:embed="rId2"/>
          <a:stretch/>
        </p:blipFill>
        <p:spPr>
          <a:xfrm>
            <a:off x="1600200" y="1117440"/>
            <a:ext cx="60958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eak the 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295280" y="1519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28600" y="870120"/>
            <a:ext cx="9588600" cy="643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19720" y="33526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276720"/>
            <a:ext cx="152280" cy="15228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724280"/>
            <a:ext cx="15264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31240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0666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352680"/>
            <a:ext cx="15264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just happened 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3911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35812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here awhile ag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47840" cy="632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48320" y="6324480"/>
            <a:ext cx="40384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can you say from observing th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07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5209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you know about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76480" y="1981080"/>
            <a:ext cx="679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86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31:42Z</dcterms:created>
  <dc:creator>Ed Robeck</dc:creator>
  <dc:description/>
  <dc:language>en-US</dc:language>
  <cp:lastModifiedBy>Ed Robeck</cp:lastModifiedBy>
  <dcterms:modified xsi:type="dcterms:W3CDTF">2008-05-05T01:09:33Z</dcterms:modified>
  <cp:revision>3</cp:revision>
  <dc:subject/>
  <dc:title>Inquiry-Based Science Instruction and Virtual Learning Objects</dc:title>
</cp:coreProperties>
</file>